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9.wmf" ContentType="image/x-wmf"/>
  <Override PartName="/ppt/media/image7.gif" ContentType="image/gif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959-4B3C-4454-AA89-93628120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384-7A7A-41C8-9DF5-2BC77092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AB2-A590-4900-9D37-B82D8845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41A-EE9E-45A0-83C1-3F07775E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7C78-10B9-4985-A3CD-780DBD74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A210-AA91-4767-B4D2-8F5E11C1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1DC9-1C49-4E0F-9C8C-846D1776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8BC2-3E8E-4AF1-B7AD-0FC97155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91C2-1973-4316-8A90-5D9C43CC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C3C3-9B6C-4B41-BCE9-52C4299C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64BC-60BA-49CA-99EB-6712721C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553-578C-4BF4-9004-7520B72D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70B8-F26B-4103-9871-F481BE94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E263-9A8E-455E-927C-B13233A6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4BFA-5C3D-43ED-A7E8-9AD12355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3D5E-0364-4DAE-B854-D8F364E7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89AD-D923-4AC0-8A6F-05137F19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1F3-076B-427E-82D7-1BD062D6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31E-FFD6-45C0-A78B-C030C986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9D9-E4FA-47F3-8058-058F31FE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3CD-4970-4ED4-8752-CCD39A49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BD1-4C7F-4DD5-8C74-848822EA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706-C80B-478D-B3EA-0BD8603A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6BD-413E-4AA2-B704-C4C2062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CA2E-7F6D-4CF0-ADA0-E8D0512D0F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365-E7AB-4D6B-AB70-E8A21BAFE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oefl.org/" TargetMode="External"/><Relationship Id="rId2" Type="http://schemas.openxmlformats.org/officeDocument/2006/relationships/hyperlink" Target="https://www.google.com/url?q=http://www.uchmet.ru/&amp;sa=D&amp;usg=AFQjCNFLxo-SvZLBchthjS7-ueZVilZdQQ" TargetMode="External"/><Relationship Id="rId3" Type="http://schemas.openxmlformats.org/officeDocument/2006/relationships/hyperlink" Target="https://www.google.com/url?q=http://pedsovet.su/&amp;sa=D&amp;usg=AFQjCNH3XIFeCn0nMsXxCqKb2r6NuLiZww" TargetMode="External"/><Relationship Id="rId4" Type="http://schemas.openxmlformats.org/officeDocument/2006/relationships/hyperlink" Target="https://www.google.com/url?q=http://www.zankov.ru/&amp;sa=D&amp;usg=AFQjCNEI0fj1vxcDcThVWEuwbmfoy5cx-A" TargetMode="External"/><Relationship Id="rId5" Type="http://schemas.openxmlformats.org/officeDocument/2006/relationships/hyperlink" Target="https://www.google.com/url?q=http://www.proshkolu.ru/&amp;sa=D&amp;usg=AFQjCNHNIi9LSKTRu03YFnxFEsFi-EEEIw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хема 1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540640" cy="6181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https://urok.1sept.ru/articles/691495/img2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95280" y="404640"/>
            <a:ext cx="756144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ы с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е письмо Перепутанные логические цепоч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" descr="MCj04344030000[1]"/>
          <p:cNvPicPr/>
          <p:nvPr/>
        </p:nvPicPr>
        <p:blipFill>
          <a:blip r:embed="rId1"/>
          <a:stretch/>
        </p:blipFill>
        <p:spPr>
          <a:xfrm rot="650400">
            <a:off x="6445080" y="3879360"/>
            <a:ext cx="2171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0"/>
          <a:ext cx="9144000" cy="1417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4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Бортовой журнал »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  <p:pic>
        <p:nvPicPr>
          <p:cNvPr id="127" name="Рисунок 4" descr=""/>
          <p:cNvPicPr/>
          <p:nvPr/>
        </p:nvPicPr>
        <p:blipFill>
          <a:blip r:embed="rId1"/>
          <a:srcRect l="21110" t="82191" r="42565" b="6233"/>
          <a:stretch/>
        </p:blipFill>
        <p:spPr>
          <a:xfrm>
            <a:off x="0" y="981000"/>
            <a:ext cx="9144000" cy="21607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2"/>
          <a:srcRect l="21016" t="56399" r="42990" b="12185"/>
          <a:stretch/>
        </p:blipFill>
        <p:spPr>
          <a:xfrm>
            <a:off x="0" y="3135240"/>
            <a:ext cx="91440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1417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4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Бортовой журнал »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  <p:pic>
        <p:nvPicPr>
          <p:cNvPr id="131" name="Рисунок 77" descr="C:\Users\сетевой педагог\Desktop\Ученики- артинки\i-1.jpg"/>
          <p:cNvPicPr/>
          <p:nvPr/>
        </p:nvPicPr>
        <p:blipFill>
          <a:blip r:embed="rId1"/>
          <a:stretch/>
        </p:blipFill>
        <p:spPr>
          <a:xfrm>
            <a:off x="6372360" y="3141720"/>
            <a:ext cx="2479680" cy="35719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"/>
          <p:cNvPicPr/>
          <p:nvPr/>
        </p:nvPicPr>
        <p:blipFill>
          <a:blip r:embed="rId2"/>
          <a:srcRect l="38421" t="56017" r="47531" b="8581"/>
          <a:stretch/>
        </p:blipFill>
        <p:spPr>
          <a:xfrm>
            <a:off x="0" y="1417680"/>
            <a:ext cx="42847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F:\фото\IMG_9336.JPG"/>
          <p:cNvPicPr/>
          <p:nvPr/>
        </p:nvPicPr>
        <p:blipFill>
          <a:blip r:embed="rId1"/>
          <a:stretch/>
        </p:blipFill>
        <p:spPr>
          <a:xfrm>
            <a:off x="642960" y="357120"/>
            <a:ext cx="8001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06616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емый материа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692280"/>
          <a:ext cx="9325080" cy="6540480"/>
        </p:xfrm>
        <a:graphic>
          <a:graphicData uri="http://schemas.openxmlformats.org/drawingml/2006/table">
            <a:tbl>
              <a:tblPr/>
              <a:tblGrid>
                <a:gridCol w="9325080"/>
              </a:tblGrid>
              <a:tr h="6540480">
                <a:tc>
                  <a:txBody>
                    <a:bodyPr lIns="57960" rIns="579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Генике Е.А., Трифонова Е.А. Развитие критического мышления (базовая модель) / в сб. Учитель и ученик: возможности диалога и понимания. – Том 1 // под общ. ред. Л.И. Семиной. – М.: изд-во «Бонфи», 2002. – 239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Заир-Бек С. И. Развитие критического мышления на уроке: пособие для учителей общеобразоват. учреждений / С. И. Заир-Бек, И. В. Муштавинская. — 2-е изд., дораб. — М.: Просвещение, 2011. — 223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Заир-Бек С.И. Развитие критического мышления через чтение и письмо: стадии и методические приемы // Директор школы. 2005. № 4. - с. 66 — 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Загашеев И.О., Заир-Бек С.И., Муштавинская И.В. Учим детей мыслить критически. – СПб. 2003. – 192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db5353"/>
                          </a:solidFill>
                          <a:uFillTx/>
                          <a:latin typeface="Calibri"/>
                          <a:hlinkClick r:id="rId2"/>
                        </a:rPr>
                        <a:t>5. http://www.uchmet.ru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-Статья «Использование технологии развития критического мышления на уроках в начальной школ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db5353"/>
                          </a:solidFill>
                          <a:uFillTx/>
                          <a:latin typeface="Calibri"/>
                          <a:hlinkClick r:id="rId3"/>
                        </a:rPr>
                        <a:t>6. http://pedsovet.su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- Статья «Использование технологии развития критического мышления на уроках в начальной школе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db5353"/>
                          </a:solidFill>
                          <a:uFillTx/>
                          <a:latin typeface="Calibri"/>
                          <a:hlinkClick r:id="rId4"/>
                        </a:rPr>
                        <a:t>7. http://www.zankov.ru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Формирование основ критического мышления у учащихся начальных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db5353"/>
                          </a:solidFill>
                          <a:uFillTx/>
                          <a:latin typeface="Calibri"/>
                          <a:hlinkClick r:id="rId5"/>
                        </a:rPr>
                        <a:t>8.http://www.proshkolu.ru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Развитие критического мышления на уроках гуманитарного цикла в начальной шко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хема 1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534160" cy="6181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29600" cy="1143000"/>
          </a:xfrm>
          <a:prstGeom prst="rect">
            <a:avLst/>
          </a:prstGeom>
          <a:solidFill>
            <a:srgbClr val="b0ccb0"/>
          </a:solidFill>
          <a:ln w="9360">
            <a:solidFill>
              <a:srgbClr val="66ff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применения технолог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низ 1"/>
          <p:cNvSpPr/>
          <p:nvPr/>
        </p:nvSpPr>
        <p:spPr>
          <a:xfrm>
            <a:off x="706320" y="1292400"/>
            <a:ext cx="433440" cy="10080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72a376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4"/>
          <p:cNvSpPr/>
          <p:nvPr/>
        </p:nvSpPr>
        <p:spPr>
          <a:xfrm>
            <a:off x="4078440" y="1322280"/>
            <a:ext cx="431640" cy="100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72a376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5"/>
          <p:cNvSpPr/>
          <p:nvPr/>
        </p:nvSpPr>
        <p:spPr>
          <a:xfrm>
            <a:off x="7666200" y="1165320"/>
            <a:ext cx="431640" cy="100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72a376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хема 7" descr=""/>
          <p:cNvPicPr/>
          <p:nvPr/>
        </p:nvPicPr>
        <p:blipFill>
          <a:blip r:embed="rId1"/>
          <a:stretch/>
        </p:blipFill>
        <p:spPr>
          <a:xfrm>
            <a:off x="146160" y="2712960"/>
            <a:ext cx="263988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987640" y="2708280"/>
          <a:ext cx="2592360" cy="29527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29527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ысление содержани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» (realization of mean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pic>
        <p:nvPicPr>
          <p:cNvPr id="90" name="Схема 10" descr=""/>
          <p:cNvPicPr/>
          <p:nvPr/>
        </p:nvPicPr>
        <p:blipFill>
          <a:blip r:embed="rId2"/>
          <a:stretch/>
        </p:blipFill>
        <p:spPr>
          <a:xfrm>
            <a:off x="6218280" y="2693880"/>
            <a:ext cx="284652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357120"/>
          <a:ext cx="9144000" cy="10605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60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Blob’s tree»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  <p:pic>
        <p:nvPicPr>
          <p:cNvPr id="93" name="Рисунок 5" descr="https://arhivurokov.ru/kopilka/uploads/user_file_5468c1c6760cc/otsienivaniie-na-urokakh-anghliiskogho-iazyka_1.jpeg"/>
          <p:cNvPicPr/>
          <p:nvPr/>
        </p:nvPicPr>
        <p:blipFill>
          <a:blip r:embed="rId1"/>
          <a:stretch/>
        </p:blipFill>
        <p:spPr>
          <a:xfrm>
            <a:off x="2050920" y="1401840"/>
            <a:ext cx="4824720" cy="524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AG00315_[1]"/>
          <p:cNvPicPr/>
          <p:nvPr/>
        </p:nvPicPr>
        <p:blipFill>
          <a:blip r:embed="rId2"/>
          <a:stretch/>
        </p:blipFill>
        <p:spPr>
          <a:xfrm>
            <a:off x="301680" y="4022640"/>
            <a:ext cx="1749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0"/>
          <a:ext cx="9144000" cy="11253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2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Кластеры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  <p:pic>
        <p:nvPicPr>
          <p:cNvPr id="97" name="Рисунок 4" descr=""/>
          <p:cNvPicPr/>
          <p:nvPr/>
        </p:nvPicPr>
        <p:blipFill>
          <a:blip r:embed="rId1"/>
          <a:srcRect l="33978" t="26544" r="26203" b="1731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357120"/>
          <a:ext cx="9144000" cy="10605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60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нсерт »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1"/>
          <p:cNvSpPr/>
          <p:nvPr/>
        </p:nvSpPr>
        <p:spPr>
          <a:xfrm>
            <a:off x="250920" y="1500120"/>
            <a:ext cx="843588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inter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</a:t>
            </a:r>
            <a:r>
              <a:rPr b="0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n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</a:t>
            </a:r>
            <a:r>
              <a:rPr b="0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system  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eff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</a:t>
            </a:r>
            <a:r>
              <a:rPr b="0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MCj04344110000[1]"/>
          <p:cNvPicPr/>
          <p:nvPr/>
        </p:nvPicPr>
        <p:blipFill>
          <a:blip r:embed="rId1"/>
          <a:stretch/>
        </p:blipFill>
        <p:spPr>
          <a:xfrm>
            <a:off x="6262560" y="3860640"/>
            <a:ext cx="2411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MCj04343830000[1]"/>
          <p:cNvPicPr/>
          <p:nvPr/>
        </p:nvPicPr>
        <p:blipFill>
          <a:blip r:embed="rId1"/>
          <a:stretch/>
        </p:blipFill>
        <p:spPr>
          <a:xfrm>
            <a:off x="6659640" y="4869000"/>
            <a:ext cx="2700360" cy="198900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2"/>
          <p:cNvSpPr/>
          <p:nvPr/>
        </p:nvSpPr>
        <p:spPr>
          <a:xfrm>
            <a:off x="2916360" y="13669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6"/>
          <p:cNvSpPr/>
          <p:nvPr/>
        </p:nvSpPr>
        <p:spPr>
          <a:xfrm>
            <a:off x="2976480" y="245412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право 7"/>
          <p:cNvSpPr/>
          <p:nvPr/>
        </p:nvSpPr>
        <p:spPr>
          <a:xfrm>
            <a:off x="2976480" y="38606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8"/>
          <p:cNvSpPr/>
          <p:nvPr/>
        </p:nvSpPr>
        <p:spPr>
          <a:xfrm>
            <a:off x="2976480" y="5024520"/>
            <a:ext cx="978120" cy="485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1552320" y="1182600"/>
            <a:ext cx="82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1547640" y="2365200"/>
            <a:ext cx="8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1579680" y="3722760"/>
            <a:ext cx="6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1926360" y="510696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4430880" y="1182600"/>
            <a:ext cx="31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я это зна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4068720" y="2057400"/>
            <a:ext cx="432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новая информация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4059360" y="37368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меня удив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4"/>
          <p:cNvSpPr/>
          <p:nvPr/>
        </p:nvSpPr>
        <p:spPr>
          <a:xfrm>
            <a:off x="4059360" y="492300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мне непон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0"/>
          <a:ext cx="9144000" cy="11253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12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Общее-уникальное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  <p:pic>
        <p:nvPicPr>
          <p:cNvPr id="117" name="Рисунок 5" descr=""/>
          <p:cNvPicPr/>
          <p:nvPr/>
        </p:nvPicPr>
        <p:blipFill>
          <a:blip r:embed="rId1"/>
          <a:srcRect l="13789" t="57585" r="66329" b="24745"/>
          <a:stretch/>
        </p:blipFill>
        <p:spPr>
          <a:xfrm>
            <a:off x="5651640" y="2023920"/>
            <a:ext cx="3492360" cy="3170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"/>
          <p:cNvPicPr/>
          <p:nvPr/>
        </p:nvPicPr>
        <p:blipFill>
          <a:blip r:embed="rId2"/>
          <a:srcRect l="21004" t="61862" r="35864" b="8210"/>
          <a:stretch/>
        </p:blipFill>
        <p:spPr>
          <a:xfrm>
            <a:off x="-108000" y="1125360"/>
            <a:ext cx="5759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0"/>
          <a:ext cx="9144000" cy="1417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4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Фишбоун» -Рыбья кост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</a:tbl>
          </a:graphicData>
        </a:graphic>
      </p:graphicFrame>
      <p:pic>
        <p:nvPicPr>
          <p:cNvPr id="121" name="Рисунок 5" descr=""/>
          <p:cNvPicPr/>
          <p:nvPr/>
        </p:nvPicPr>
        <p:blipFill>
          <a:blip r:embed="rId1"/>
          <a:srcRect l="24854" t="31020" r="42118" b="25316"/>
          <a:stretch/>
        </p:blipFill>
        <p:spPr>
          <a:xfrm>
            <a:off x="0" y="1417680"/>
            <a:ext cx="8964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22:26:38Z</dcterms:created>
  <dc:creator>User</dc:creator>
  <dc:description/>
  <dc:language>en-US</dc:language>
  <cp:lastModifiedBy>kab22</cp:lastModifiedBy>
  <dcterms:modified xsi:type="dcterms:W3CDTF">2025-02-26T01:14:59Z</dcterms:modified>
  <cp:revision>198</cp:revision>
  <dc:subject/>
  <dc:title>Слайд 1</dc:title>
</cp:coreProperties>
</file>